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C2A1-2B54-40BA-99E7-CE629262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F5152-1EA0-4416-AE61-B70BF0B0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EC57-9142-4043-81DF-11C40404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4555-DD93-4CED-9DF5-A6A0852F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21E2-043D-4FF5-9942-84CABD4A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805E-F2BB-4493-96DA-C186B4D2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363-1304-428D-AF9C-136CD185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9BF1-4840-4B92-92B8-977592A9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8C6-FCEA-4F62-BD5C-04A1D8FD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B98C-A4E7-4705-AA57-A6B0F0F2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FEB7-4F04-4FD8-B1A9-5D9B8119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277F2-AB80-49B9-96F9-E2E0059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60CE-7941-4E62-9094-3335D9E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A142-45EF-4598-A568-C3029460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C85E-33D8-45F8-A48B-317EB4E5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6E22-AED2-4487-AE58-042A2D06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FFED-926D-49C3-8B76-D180A640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72FE-5210-4908-B1B0-4E0AA82E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9470-2AFF-4A04-B862-6251831E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A58A-8F1D-4673-9E8C-E247EA0B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6B1E-0C73-4922-9270-64116022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DFC34-FFE0-420C-8974-0BE4D55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17E5F-34C1-4986-867A-FB7877F8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83520-B5C4-4EEF-87C3-41C7205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6D09-41BA-426A-9F5D-4365E0F89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9B8-3364-4C4A-AB4C-48B8E1C97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racle Academ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5440" y="487692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19320" y="2590920"/>
          <a:ext cx="670536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00200" y="2438280"/>
          <a:ext cx="5867280" cy="28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8672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28800" y="2590920"/>
          <a:ext cx="518148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18148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types/Super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981080"/>
          <a:ext cx="480060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004080" y="186516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1120680"/>
            <a:ext cx="367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n a group of instances has special properties, such as attributes or relationships that exist only for that group, or when there is some functionality that applies only to th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xhaustive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nt acoperite toate cazurile posibile, adica in exemplul nostru, orice publucatie este o cart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o revista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GAZ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brosura promotionala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 BROCH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ar pt. a fi siguri ca acoperim toate situatiile sau daca ne gandim ca in viitor vom putea avea si alte produse s-a inclus si subtipu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types/Super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981080"/>
          <a:ext cx="480060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48006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004080" y="186516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1120680"/>
            <a:ext cx="367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tually Exclu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orice instanta apartine doar unui singur subtip, adica un produs nu poate fi simultan atat carte cat si rev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32004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btine de fapt o partitie a multimii instantelor supertip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SINESS RU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2860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i care se pot deduce de pe 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Toti profesorii din scoala trebuie sa aiba o diploma de licenta. (=&gt;campul licenta este obligatoriu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AL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i interne ale firmei care nu pot fi “prinse” in ERD. Pentru a asigura respectarea acestor reguli se apeleaya la software. Aceste reguli trebuie sa fie documen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mpl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entru a participa la cursul de Programare elevii trebuie sa fi parcurs cursul de Algebra. (se va scrie un program care verifica in baza de date daca elevul a facut acest 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981080"/>
          <a:ext cx="662940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62940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362320" y="1828800"/>
          <a:ext cx="449568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49568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3"/>
          <a:srcRect l="15093" t="30190" r="18867" b="39627"/>
          <a:stretch/>
        </p:blipFill>
        <p:spPr>
          <a:xfrm>
            <a:off x="1600200" y="4038480"/>
            <a:ext cx="6324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362320" y="1828800"/>
          <a:ext cx="449568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449568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rcRect l="15093" t="30190" r="18867" b="39627"/>
          <a:stretch/>
        </p:blipFill>
        <p:spPr>
          <a:xfrm>
            <a:off x="1600200" y="4038480"/>
            <a:ext cx="632448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2133720" y="1600200"/>
          <a:ext cx="4647960" cy="23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64796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ABIL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rcRect l="15093" t="30190" r="18867" b="39627"/>
          <a:stretch/>
        </p:blipFill>
        <p:spPr>
          <a:xfrm>
            <a:off x="1600200" y="3809880"/>
            <a:ext cx="5410080" cy="18558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2280" y="5638680"/>
            <a:ext cx="885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transferabilitatea =&gt; valoarea campului AUTHOR_ID din tabela POEMS nu se poate modif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iamondul apare intotdeauna pe partea cu MANY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ED RELATIONSHI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514600"/>
          <a:ext cx="4038840" cy="27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40388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981080"/>
            <a:ext cx="89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ta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der Item-urile vor primi un identificator unic in intreaga tab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rcRect l="9434" t="31135" r="37734" b="21074"/>
          <a:stretch/>
        </p:blipFill>
        <p:spPr>
          <a:xfrm>
            <a:off x="4648320" y="2514600"/>
            <a:ext cx="4038480" cy="2739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9440" y="5257800"/>
            <a:ext cx="89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cest caz fiecare ORDER ITEM este identificat unic doar pr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-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 entitate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ED RELATIONSHI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0880" y="2286000"/>
          <a:ext cx="4038840" cy="27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4038840" cy="27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752480"/>
            <a:ext cx="89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ta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emurile pot primi un numar de ordine in cadrul unei comenzi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9440" y="4937040"/>
            <a:ext cx="8931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cest caz doar id-ul din Entitate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I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 mai este suficient, se observa ca sunt mai multe instante cu acelasi 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 aceea identificatorul unic este compus din Id-ul d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I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euna cu Id-ul comenzii (combinat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 + ORDER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Acest tip de UID se marcheaza cu relatie barata in partea entitatii ORDER ITEM (bara inseamna ca "imprumutam" id-ul entitatii din cealalta parte a relati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9434" t="23587" r="33965" b="28621"/>
          <a:stretch/>
        </p:blipFill>
        <p:spPr>
          <a:xfrm>
            <a:off x="4572000" y="2209680"/>
            <a:ext cx="41911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371600" y="2133720"/>
          <a:ext cx="6172200" cy="36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133720"/>
                    <a:ext cx="6172200" cy="36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937040" y="1865160"/>
            <a:ext cx="367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 pastreaza optionalitatea relatiilor origi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Each ORD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 one or mor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one or more 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DUCT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A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 on one or more OR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DUCT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ear on one or more 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937040" y="1865160"/>
            <a:ext cx="36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 partea entitatii de intersectie (ORDER ITEM) relatiile sunt mandato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ITEM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one and only one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ITEM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U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or one and only one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937040" y="1865160"/>
            <a:ext cx="36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Relatiile dinspre entitatea de intersectie sunt c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RDER must contain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NE OR MO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DUCT may appear on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ONE OR M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MANY-TO-MAN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760" y="4913280"/>
            <a:ext cx="89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2057400"/>
          <a:ext cx="4429080" cy="32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442908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4937040" y="1865160"/>
            <a:ext cx="367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obicei relatiile dinspre entitatea de intersectie sunt barate, asta insemnand ca un ORDER ITEM este unic identificat prin id-ul ORDER-ului impreuna cu ID-ul PRODUCT-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oate insa decide includerea unei chei artificiale care sa identifice unic fiecare order item si atunci dispar barel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asta varianta este de preferat daca UID-urile entitatilor originate sunt comp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NIREA SHOPPING C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P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ONESCU GIG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UGH GR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KIA 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2397240"/>
          <a:ext cx="8229600" cy="324144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DU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OFT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LEPHON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KIA 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05120"/>
          <a:ext cx="8229600" cy="375912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ities / Atributes / Unique Identifi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905120"/>
          <a:ext cx="8229600" cy="473076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ddress, name, prof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ame,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ame, address, e-mail, age (date of bir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al_name, stage_name, nation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ame, RGB_co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ype,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LOR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, year, capacitate_cilind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981080"/>
          <a:ext cx="7238880" cy="28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23888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D, Relationship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71600" y="1981080"/>
          <a:ext cx="7010280" cy="30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701028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2:14:55Z</dcterms:created>
  <dc:creator>carmen</dc:creator>
  <dc:description/>
  <dc:language>en-US</dc:language>
  <cp:lastModifiedBy>kome</cp:lastModifiedBy>
  <dcterms:modified xsi:type="dcterms:W3CDTF">2007-09-18T17:36:41Z</dcterms:modified>
  <cp:revision>30</cp:revision>
  <dc:subject/>
  <dc:title>Oracle Academy</dc:title>
</cp:coreProperties>
</file>